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2920" y="1828440"/>
            <a:ext cx="82389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42920" y="4137120"/>
            <a:ext cx="82389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920" y="182844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364640" y="182844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42920" y="413712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364640" y="413712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2920" y="1828440"/>
            <a:ext cx="2652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928960" y="1828440"/>
            <a:ext cx="2652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714640" y="1828440"/>
            <a:ext cx="2652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142920" y="4137120"/>
            <a:ext cx="2652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928960" y="4137120"/>
            <a:ext cx="2652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5714640" y="4137120"/>
            <a:ext cx="2652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48D-0119-4974-8018-351BED6C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2920" y="1828440"/>
            <a:ext cx="82389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147C-23B2-45C9-8E22-16FB449D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2920" y="1828440"/>
            <a:ext cx="8238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1FC6-54F7-4C2E-B68B-DAE28996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2920" y="1828440"/>
            <a:ext cx="402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640" y="1828440"/>
            <a:ext cx="402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B22B-DA2F-4525-AE22-DB94DE3E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BF09-CEB6-4118-BEFC-7CA0FA3F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77840" y="151920"/>
            <a:ext cx="73785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719F-94A1-4F7D-8CB4-5BEF1E1D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920" y="182844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640" y="1828440"/>
            <a:ext cx="402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42920" y="413712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692A-F67A-480F-8864-476E391A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142920" y="1828440"/>
            <a:ext cx="82389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920" y="1828440"/>
            <a:ext cx="402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640" y="182844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640" y="413712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1805-4B2E-42DB-826B-CDCDA75E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920" y="182844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640" y="182844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42920" y="4137120"/>
            <a:ext cx="82389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DEC1-3EA7-497A-8076-A1EC9ED2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1828440"/>
            <a:ext cx="82389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42920" y="4137120"/>
            <a:ext cx="82389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098B-AA99-458B-B67D-2DB870D8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2920" y="182844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640" y="182844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42920" y="413712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640" y="413712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4720-BE33-4CB1-941C-CC04027D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920" y="1828440"/>
            <a:ext cx="2652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28960" y="1828440"/>
            <a:ext cx="2652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714640" y="1828440"/>
            <a:ext cx="2652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42920" y="4137120"/>
            <a:ext cx="2652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928960" y="4137120"/>
            <a:ext cx="2652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714640" y="4137120"/>
            <a:ext cx="2652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BE96-5DDB-4E73-AB11-00854AEA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2920" y="1828440"/>
            <a:ext cx="8238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920" y="1828440"/>
            <a:ext cx="402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64640" y="1828440"/>
            <a:ext cx="402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77840" y="151920"/>
            <a:ext cx="73785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2920" y="182844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64640" y="1828440"/>
            <a:ext cx="402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2920" y="413712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2920" y="1828440"/>
            <a:ext cx="402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64640" y="182844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364640" y="413712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2920" y="182844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64640" y="1828440"/>
            <a:ext cx="4020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2920" y="4137120"/>
            <a:ext cx="82389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976880" y="4320"/>
            <a:ext cx="915840" cy="19353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7840" y="151920"/>
            <a:ext cx="7378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920" y="1828440"/>
            <a:ext cx="8238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 rot="18427200">
            <a:off x="8064360" y="43920"/>
            <a:ext cx="919080" cy="19476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rot="18427200">
            <a:off x="7973280" y="197280"/>
            <a:ext cx="830160" cy="146664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7394400" y="-47160"/>
            <a:ext cx="2143800" cy="1995120"/>
            <a:chOff x="7394400" y="-47160"/>
            <a:chExt cx="2143800" cy="1995120"/>
          </a:xfrm>
        </p:grpSpPr>
        <p:grpSp>
          <p:nvGrpSpPr>
            <p:cNvPr id="9" name=""/>
            <p:cNvGrpSpPr/>
            <p:nvPr/>
          </p:nvGrpSpPr>
          <p:grpSpPr>
            <a:xfrm>
              <a:off x="7394400" y="-47160"/>
              <a:ext cx="2143800" cy="1995120"/>
              <a:chOff x="7394400" y="-47160"/>
              <a:chExt cx="2143800" cy="1995120"/>
            </a:xfrm>
          </p:grpSpPr>
          <p:sp>
            <p:nvSpPr>
              <p:cNvPr id="10" name=""/>
              <p:cNvSpPr/>
              <p:nvPr/>
            </p:nvSpPr>
            <p:spPr>
              <a:xfrm rot="18427200">
                <a:off x="8668440" y="1584000"/>
                <a:ext cx="89640" cy="39852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" name=""/>
              <p:cNvGrpSpPr/>
              <p:nvPr/>
            </p:nvGrpSpPr>
            <p:grpSpPr>
              <a:xfrm>
                <a:off x="7394400" y="-47160"/>
                <a:ext cx="2143800" cy="1995120"/>
                <a:chOff x="7394400" y="-47160"/>
                <a:chExt cx="2143800" cy="1995120"/>
              </a:xfrm>
            </p:grpSpPr>
            <p:sp>
              <p:nvSpPr>
                <p:cNvPr id="12" name=""/>
                <p:cNvSpPr/>
                <p:nvPr/>
              </p:nvSpPr>
              <p:spPr>
                <a:xfrm rot="18427200">
                  <a:off x="8024040" y="113760"/>
                  <a:ext cx="220680" cy="1731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 rot="18427200">
                  <a:off x="8134560" y="498960"/>
                  <a:ext cx="388440" cy="60624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 rot="18427200">
                  <a:off x="7864560" y="296280"/>
                  <a:ext cx="729000" cy="124308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rot="18427200">
                  <a:off x="7918920" y="19800"/>
                  <a:ext cx="1094040" cy="186048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rot="18427200">
                  <a:off x="8482320" y="1305360"/>
                  <a:ext cx="243720" cy="16884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 rot="18427200">
                  <a:off x="8420760" y="1175040"/>
                  <a:ext cx="261360" cy="19908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 rot="18427200">
                  <a:off x="8049600" y="314640"/>
                  <a:ext cx="261000" cy="20340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 rot="18427200">
                  <a:off x="7999200" y="216360"/>
                  <a:ext cx="258120" cy="19080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" name=""/>
            <p:cNvSpPr/>
            <p:nvPr/>
          </p:nvSpPr>
          <p:spPr>
            <a:xfrm>
              <a:off x="7895520" y="129240"/>
              <a:ext cx="58320" cy="13860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" name="" descr=""/>
          <p:cNvPicPr/>
          <p:nvPr/>
        </p:nvPicPr>
        <p:blipFill>
          <a:blip r:embed="rId2"/>
          <a:srcRect l="87005" t="8165" r="373" b="84672"/>
          <a:stretch/>
        </p:blipFill>
        <p:spPr>
          <a:xfrm>
            <a:off x="8120160" y="6407280"/>
            <a:ext cx="961920" cy="409320"/>
          </a:xfrm>
          <a:prstGeom prst="rect">
            <a:avLst/>
          </a:prstGeom>
          <a:ln w="0">
            <a:noFill/>
          </a:ln>
        </p:spPr>
      </p:pic>
      <p:sp>
        <p:nvSpPr>
          <p:cNvPr id="22" name=""/>
          <p:cNvSpPr/>
          <p:nvPr/>
        </p:nvSpPr>
        <p:spPr>
          <a:xfrm>
            <a:off x="403848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46FEB66-E8B0-46D9-9538-95CFE2DC1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/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7c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CCAD-97A2-4FC3-B7C7-3316287979B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9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75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79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87005" t="8165" r="373" b="84672"/>
          <a:stretch/>
        </p:blipFill>
        <p:spPr>
          <a:xfrm>
            <a:off x="8120160" y="6407280"/>
            <a:ext cx="961920" cy="409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7c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acle Academ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te Fun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154440" y="609588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. Carmen Popes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acle Academy Lead Adju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42920" y="304920"/>
            <a:ext cx="82389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SDAT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eaza date&amp;time a </a:t>
            </a:r>
            <a:r>
              <a:rPr b="0" lang="en-US" sz="2800" spc="-1" strike="noStrike">
                <a:solidFill>
                  <a:srgbClr val="d60093"/>
                </a:solidFill>
                <a:latin typeface="Comic Sans MS"/>
              </a:rPr>
              <a:t>serverulu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 are paramet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RRENT_DAT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eaza data curenta de pe calculatorul </a:t>
            </a:r>
            <a:r>
              <a:rPr b="0" lang="en-US" sz="2800" spc="-1" strike="noStrike">
                <a:solidFill>
                  <a:srgbClr val="d60093"/>
                </a:solidFill>
                <a:latin typeface="Comic Sans MS"/>
              </a:rPr>
              <a:t>loc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TH_BETWEEN(date1,date2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eaza numarul de luni dintre doua date calendaristice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loarea returnata e un nr. real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loarea poate negativa (daca date2 e mai recenta decat date1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42920" y="304920"/>
            <a:ext cx="82389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_MONTH(date,n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duna un nr. de luni la o data calendaristic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LECT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ysdat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600" spc="-1" strike="noStrike">
                <a:solidFill>
                  <a:srgbClr val="cc0000"/>
                </a:solidFill>
                <a:latin typeface="Comic Sans MS"/>
              </a:rPr>
              <a:t>ADD_MONTH(sysdate,5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ROM DUA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&gt;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03-MAR-06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cc0000"/>
                </a:solidFill>
                <a:latin typeface="Comic Sans MS"/>
              </a:rPr>
              <a:t>03-AUG-06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XT_DAY(date,'Friday'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turneaza urmatoarea zi de vineri 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de dupa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ziua date (adica chiar daca azi e fineri next_day(sysdate,'Friday') nu va returna ziua curenta ci vinerea viitoare)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LECT </a:t>
            </a:r>
            <a:r>
              <a:rPr b="0" lang="en-US" sz="2600" spc="-1" strike="noStrike">
                <a:solidFill>
                  <a:srgbClr val="cc0000"/>
                </a:solidFill>
                <a:latin typeface="Comic Sans MS"/>
              </a:rPr>
              <a:t>sysdat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NEXT_DAY(sysdate,'Monday'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600" spc="-1" strike="noStrike">
                <a:solidFill>
                  <a:srgbClr val="00cc66"/>
                </a:solidFill>
                <a:latin typeface="Comic Sans MS"/>
              </a:rPr>
              <a:t>NEXT_DAY(sysdate,'Friday'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ROM dua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&gt; </a:t>
            </a:r>
            <a:r>
              <a:rPr b="0" lang="en-US" sz="2600" spc="-1" strike="noStrike">
                <a:solidFill>
                  <a:srgbClr val="cc0000"/>
                </a:solidFill>
                <a:latin typeface="Comic Sans MS"/>
              </a:rPr>
              <a:t>03-MAR-0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06-MAR-0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cc66"/>
                </a:solidFill>
                <a:latin typeface="Comic Sans MS"/>
              </a:rPr>
              <a:t>10-MAR-06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2285640"/>
            <a:ext cx="82389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ST_DAY(dat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turneaza ultima zi din luna din care face parte da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LECT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sysdat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600" spc="-1" strike="noStrike">
                <a:solidFill>
                  <a:srgbClr val="00cc66"/>
                </a:solidFill>
                <a:latin typeface="Comic Sans MS"/>
              </a:rPr>
              <a:t>LAST_DAY(sysdate)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Comic Sans MS"/>
              </a:rPr>
              <a:t>LAST_DAY(sysdate+30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ROM dua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&gt; </a:t>
            </a:r>
            <a:r>
              <a:rPr b="0" lang="en-US" sz="2600" spc="-1" strike="noStrike">
                <a:solidFill>
                  <a:srgbClr val="0000ff"/>
                </a:solidFill>
                <a:latin typeface="Comic Sans MS"/>
              </a:rPr>
              <a:t>03-MAR-06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600" spc="-1" strike="noStrike">
                <a:solidFill>
                  <a:srgbClr val="00cc66"/>
                </a:solidFill>
                <a:latin typeface="Comic Sans MS"/>
              </a:rPr>
              <a:t>31-MAR-06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600" spc="-1" strike="noStrike">
                <a:solidFill>
                  <a:srgbClr val="cc0000"/>
                </a:solidFill>
                <a:latin typeface="Comic Sans MS"/>
              </a:rPr>
              <a:t>30-APR-06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42920" y="228600"/>
            <a:ext cx="82389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servat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 Oracle pentru valorile de tip data calendaristica se memoreaza pe langa data propriu-zisa si ore, minute, secund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LECT '03-MAR-06'-sysdate FROM DUA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=&gt; 0.516  (sau ceva de genul acesta…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t. o data introdusa ca mai sus '03-MAR-06' (adica nu se specifica ora), se presupune ora 12.00 A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YSDATE – include intotdeauna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si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ora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surent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8238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UND(dat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otunjeste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date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la ora 12AM (miezul noptii, inceputul zilei), daca ora din date este inainte de amiaza (ora 12PM), respectiv la ziua urmatoare (12AM, miezul noptii) daca ora e trecuta de miezul zilei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NC(date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runchiaza date la ora 12 AM (miezul noptii, inceputul zilei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0"/>
            <a:ext cx="823896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(date,'Month'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UNC(date,'Month'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tunjeste/trunchiaza la inceput de luna, rotunjirea se face dupa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6 ale luni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nclusiv, la luna urmato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LECT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ysdate, 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ROUND(sysdate,'Month'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RUNC(sysdate,'Month'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ROUND(sysdate+20,'Month'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RUNC(sysdate+20,'Month'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ROM dua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=&gt;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03-MAR-06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01-MAR-06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01-MAR-06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01-APR-06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01-MAR-06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823896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(date,'Year'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UNC(date,'Year'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tunjeste/trunchiaza la inceput de an (rotunjirea se face dupa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 iuli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LECT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ysdate, 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ROUND(sysdate,'Year'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RUNC(sysdate,'Year'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ROUND(ADD_MONTH(sysdate,4),'Year'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TRUNC(ADD_MONTH(sysdate,4),'Year'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ROM dua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=&gt;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03-MAR-06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01-JAN-06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01-JAN-06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01-JAN-07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Comic Sans MS"/>
              </a:rPr>
              <a:t>01-MAR-06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7:17:12Z</dcterms:created>
  <dc:creator>carmen</dc:creator>
  <dc:description/>
  <dc:language>en-US</dc:language>
  <cp:lastModifiedBy>kome</cp:lastModifiedBy>
  <dcterms:modified xsi:type="dcterms:W3CDTF">2007-09-18T17:44:21Z</dcterms:modified>
  <cp:revision>24</cp:revision>
  <dc:subject/>
  <dc:title>Oracle Academy</dc:title>
</cp:coreProperties>
</file>